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B6FB-FE61-49C4-BD9A-22626A0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1D5D-B44D-43A5-9E72-A254C1C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F9FE-9D98-42D8-8281-528784B0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5511-FB6D-4C4E-8F9E-94103E47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EA5-99E3-4CF6-AC17-91EA260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AE8-CB12-4E9D-859D-F3238CA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A48B-CBF1-4A05-91EF-CD3B27AA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7C5-262B-4C1C-B6F8-45BC2F4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283A-BDD5-4081-83FA-2F51A3A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8A3-6466-4A18-A98B-4476885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C02E-EAC2-4E12-86E6-DF64B77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C8BF-847B-4F42-80BE-1279B9D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FA2C-A371-4B1A-A751-17E486A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BA8A-2B98-42CF-816B-2A58B7B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E3A-5769-4959-A33F-7034C654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9835-0C00-4881-9E4A-37C66C63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BA5A-CC74-46E4-A448-1D4C8660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FB35-CFAF-4F26-8CBF-54CCA577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A444-9F9C-4F40-A7CD-46190A4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B3CA-00B0-4BCA-AD13-69D5A80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372A-B0C0-4058-A24B-3D9A5C16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8090-E586-47BA-B85F-40554C4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A05A-21B1-46D5-BC48-3FD37B8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6F18-0914-4BE5-BBB7-4E10541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153A-B894-48E1-AB0A-DD863CBC0F3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8FB-A093-461F-850B-E19BCB2F6B4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oziologi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ociolog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dividuelle Freizeitgestalt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2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Lesekult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2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Medi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Han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Computerspie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lay S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eizeitgestaltung in der Grup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amil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flü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rlau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eun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rt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K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i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chulkl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flü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reff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ree time activ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ttitude to r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w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mputer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lay S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ree time activities in the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ur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oli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utor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chool tr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Landeskund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gional stud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ild des Landes (alles nur Stereotyp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gionen, Städte, Landscha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harakteristische Merkm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ilder in Lehrbüch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ersonen in Lehrbüch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tten und Brä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ünstler, Schriftsteller, Mus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ktuelle Bands und Sä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ortrai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gions, cities, country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ypical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ictures in th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eople in th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ustoms and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tists, writers, mus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nds and singers of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Geschicht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nktuelle historische Ereignisse eines Landes in Geschichtsbüchern (z.B. 1975 in Spanien, 1990 in Deutschlan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n Zeitraum (z.B. das XXI Jahrhundert) erforsch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rtain historical event of the country in the history books (for example 1975 in Spain or 1990 in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vestigation of the period of time (century XX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Fremdsprachen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foreign langua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elfalt der unterrichtenden Fremdsprachen in der Sch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schlüsse (nach dem europäischen Referenzrah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rngruppenstä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elfalt der gesprochenen Muttersprachen in der Sch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languages taught in th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ertificates of languages tought un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European Framework of Reference for Languages CE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upils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moth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ligion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falt der Religion in der Schu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lle der Religion in jeweiligen Stuf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meinsame religiöse Fe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number of religious denom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ortance of religion in certain ag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religious holiday, common occa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chule als Lebensraum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chool as a living spa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ülerzah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hrerzah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terrichtspla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usengestaltu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udienfahrten und Stufenfahrt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u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pup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ime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tivities in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tracurricula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ool excursions for one ag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ool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6:45:29Z</dcterms:created>
  <dc:creator>K&amp;K&amp;K</dc:creator>
  <dc:description/>
  <dc:language>en-US</dc:language>
  <cp:lastModifiedBy>LEHRER-IN</cp:lastModifiedBy>
  <dcterms:modified xsi:type="dcterms:W3CDTF">2008-06-03T11:10:22Z</dcterms:modified>
  <cp:revision>1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